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CBADD-D01E-4154-88FD-2B14EB7D6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56349-ECFE-4DD0-81B1-BF26B920E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E6522-1143-4FEA-966B-B1FC87ACF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12D5E-EB21-4923-B924-15DF63570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8839F-E048-4B4C-8EB3-A54563B7D2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23DA4-927A-4211-BFF9-1BA4D26D4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B5822-A6CC-47F2-90E3-90685B902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B5313-6084-4A58-B39E-0A029C965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C629F-90D9-4546-8E50-E9798E121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30807-64D6-415F-8A7A-BC22556A8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A15E9-E5F4-46A6-920B-35989AE2B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D13F3-E418-451C-9D76-C224654A9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E1161E22-13E4-411E-B36F-614147F64FA3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99436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4160" y="1143000"/>
            <a:ext cx="2819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gress NE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16000" y="1346040"/>
          <a:ext cx="8445240" cy="7112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46040"/>
                    <a:ext cx="8445240" cy="711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Jürgen Schmitz</cp:lastModifiedBy>
  <cp:lastPrinted>2003-07-02T13:24:00Z</cp:lastPrinted>
  <dcterms:modified xsi:type="dcterms:W3CDTF">2004-01-08T17:26:42Z</dcterms:modified>
  <cp:revision>96</cp:revision>
  <dc:subject/>
  <dc:title>No Slide Title</dc:title>
</cp:coreProperties>
</file>